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684-C9CD-4B3F-B735-962FBBA6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4D1-5CE3-4803-B9A3-83ADA5C5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CC8-B5AF-4D90-B604-6BC3CB5E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7FA-98A5-42E4-9372-ADD88D4E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1942-964A-4948-A8E0-F390F242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5D02-27CD-4013-AC8E-CEEF89C6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ADAB-52D5-4386-886E-8CAA64B2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2B14-FBA1-40DC-88CA-4AB39A15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8410-734F-4A69-BD5A-B158AC91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6A81-503C-4CFD-A918-071F3CE1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157-EE01-4DED-8233-D539576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BEC-3E33-412C-8C89-39F1C817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B3CD-73A8-4873-9E1A-7C87BD4C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93B4-C337-492C-BCAC-C27A2E20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A6BF-32B0-4AB6-A23C-0B492A74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325A-7F72-45A0-9A28-76F10EDF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2DAD-5A5F-47A1-9491-80F6A8F4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667-3EF5-4658-85C7-ACACDCD1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2F5-4C14-4D22-BCF1-32D0275E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1AD-FBD3-4F4F-9802-1560797E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0F9-B767-425C-8E8F-7FB5CC46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D48-7DC6-46D7-ACA8-74713A3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B78-690F-4D30-B3D7-510F759D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B07-88B8-4967-890D-7C66D8F1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747B-DA3B-4033-82B7-1491478E4F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9AE1-41DC-4735-9EC9-FB1845DF03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minder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essay needs to be in 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hoice is in PENC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alcula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write in essay format. Complete sentences. If you make a diagram, refer to it in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rokaryote, Plant Eukaryote, Animal Eukaryot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BACTERIA ARE PROKARYOTE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e= no nucleus, no organelles, cell wall, rib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Eukaryote= square, has nucleus + organelles, ribosomes, cell wall, chloroplasts, cell plate during mi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Eukaryote= circle, has nucleus + organelles, ribosomes, NO cell wall, lysosomes, centrioles, cleaveage furrow during mi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unction, Junction…what’s your function? </a:t>
            </a:r>
            <a:r>
              <a:rPr b="0" lang="en-US" sz="4000" spc="-1" strike="noStrike">
                <a:solidFill>
                  <a:srgbClr val="b7e7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omosome= holds adjacent cells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p Junction= in animal cells, allows communication between cytoplasm of adjacen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ght Junction= tight connection between membranes of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smodesmata= only in plant cells, it’s basically a gap junction in plan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If you have these to pick from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NAD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NADP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FADH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8201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dependent reactions make ATP, NADPH, and O2. They occur in the thylako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680 (photosystem II, makes ATP + NADPH) and P700 (photosystem I, makes ATP only…if this is the only one that goes it’s called CYCL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independent reaction (Calvin cycle) uses the ATP and NADPH + CO2 to make gluc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rubisco (RuBP) fixes CO2 in the Calvin…unless it’s a C4 plant. Then it’s P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torespi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BAD thing, it’s the fact that rubisco fixes O2 and C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ts Cont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Horm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Au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bscisic Acid (A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Giberel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Ethyl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vs. Transcription vs. Translation…Think about where these are involv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polymer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NA polymer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lig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azaki fra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ion Enzy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e Transcript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at it’s from least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st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Kingd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rcha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eu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ot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fun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lant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nim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“Favorite” Phylu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1-2 questions related to this out of the 100 multiple choice questions. These are in your AP Review Packe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fera (spo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idaria (jellyfish, sea anemones, cor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lusca (snails, octupus, squ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elida (segmented wor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hropoda (insects, spiders, crustace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hniodermata (star fish, sea urch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data (animals that have notochord {becomes brain + spinal cord}, gill slits, muscular ta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word about symmetry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metry is important in the sense that it has to do with lower/higher organisms (milest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L symmetry- circular, disk shaped.  Simple.  Echnioderms + Porif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ATERAL symmetry- if organism cut in half, they have symmetric halves.  More complex.  Compartmenta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ROM BIO I…Ecology (in eco packet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levels of 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sphere- (think BIG)- this is the entire part of the earth where living things l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- interaction of living/nonliving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- Group of populations interacting in sam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= group of individuals of same species interbr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hemistry of Lif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atoms of lif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hydrogen, carbon, nitrogen, and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hat’s so great about carb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hat’s so great about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ree Forgotten Biomes (Ecology cont.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dra (northernmost reg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ra (plants) = not much, some trees, gr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na (animals) = arctic foxes, snowy owls, reind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Taiga (northern fore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ra=conif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na= caribou, wolves, moose, rab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e Deciduous 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ra= Trees that drop their leaves in wi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na= deer, wolv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co…the most IMPORTANT (and from the packet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 strategists (think they breed like cRazy)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ive in uncertain environments, breed fast, don’t care for young, short life span, small (example: bacteria, wee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k strategists- live in stable environments, long life span, care for young (example: elephant, huma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rrying Capacity= the max number of individuals of a species that a habitat ca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productive Barriers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ading to Speci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zygotic Barr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zygotic Barr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itat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l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havioral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tic 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Hybrid v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Hybrid fer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brid break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343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31240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124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495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4495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676520"/>
            <a:ext cx="533520" cy="2666880"/>
          </a:xfrm>
          <a:custGeom>
            <a:avLst/>
            <a:gdLst>
              <a:gd name="textAreaLeft" fmla="*/ 156600 w 533520"/>
              <a:gd name="textAreaRight" fmla="*/ 533880 w 5335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572000"/>
            <a:ext cx="457200" cy="1447920"/>
          </a:xfrm>
          <a:custGeom>
            <a:avLst/>
            <a:gdLst>
              <a:gd name="textAreaLeft" fmla="*/ 134280 w 457200"/>
              <a:gd name="textAreaRight" fmla="*/ 457560 w 45720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4% of a sheep population has black wool, 96% white.  If black wool is recessive what % of the population is heterozygous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4% of a sheep population has black wool, 96% white.  If black wool is recessive what % of the population is heterozygous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% of the population is homozygous for white wo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istems-generate cells throughout the plants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ical- extend roots and shoots (Primary Grow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- add girth (secondary grow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 t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ylem-water and min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loem- carry su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loem is made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ieve tube cells and companion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ylem is made of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heids- long th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ssel elements- wider,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re dead at functional mat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water from roots to leaves occurs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lk-Flow- the movement of fluid driven by a pressure difference at opposite ends of a condu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essure difference is generated at the leaf end by transpirational pull ( lower pressure) at the leaf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pulled tight against the cell walls in the air spaces of the leaf cause the negative pressure which draws water up xy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per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Pro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 of a chromosome where a set of genes are transcribed at on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all of the enzymes needed for a pathway to be present at o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ible are usually off but can be turned on.  Like the lac ope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1680" y="304920"/>
            <a:ext cx="854064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inally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ll confidence in your ability to do well.  You have worked hard this year, and you are well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plenty of sleep the night before the exam and feel good in your accomplishment of finishing out this year!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09680" y="4114800"/>
            <a:ext cx="404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hemistry of Lif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on a scale from 1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it acidic?  Basic (alkalin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= NH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xyl= CO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yl= CO (aldehyde or keton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xyl= 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jor Organic Molecu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arbohyd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onosaccharide= glucose, fruc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isaccharide= sucrose…held by glycosidic bo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ysaccharides= storage like starch or structure like cellul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carbs are a great source of energ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jor Organic Molecu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Proteins (amino acids linked together by PEPTIDE bo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- just the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- influenced by H+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- influenced by AA R-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ternary- influenced by subunits of proteins binding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jor Organic Molecu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 of carbon, hydrogen, and oxygen but not the 1:2:1 ratio of carb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glycerol + fatty ac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H+= satur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fats, oils, phospholipids, and 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jor Organic Molecu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ncludes DNA, RNA, and actually AT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DNA is double stranded and more stable than R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ATP is an energy molecule involved in energy requiring/making steps. It’s energy can easily be transferred to do cellular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6:20:32Z</dcterms:created>
  <dc:creator>Brianna</dc:creator>
  <dc:description/>
  <dc:language>en-US</dc:language>
  <cp:lastModifiedBy>moranc</cp:lastModifiedBy>
  <dcterms:modified xsi:type="dcterms:W3CDTF">2010-05-07T11:42:24Z</dcterms:modified>
  <cp:revision>11</cp:revision>
  <dc:subject/>
  <dc:title>AP BIOLOGY REVIEW</dc:title>
</cp:coreProperties>
</file>